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75133"/>
        <c:axId val="42377389"/>
      </c:barChart>
      <c:catAx>
        <c:axId val="42175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77389"/>
        <c:crosses val="autoZero"/>
        <c:auto val="1"/>
        <c:lblAlgn val="ctr"/>
        <c:lblOffset val="100"/>
        <c:noMultiLvlLbl val="0"/>
      </c:catAx>
      <c:valAx>
        <c:axId val="42377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75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B06-4DC6-4B6C-8122-838FE86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B65-B9ED-4917-82D2-A122C03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2D5-0286-4B5B-8590-2EE9ED85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A20-0DB8-43BE-9C80-3A67CD4C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C76-315E-4629-A810-D9338C36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F56-769B-4AEA-8C2B-80B9D601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8E3-7531-4FE7-8820-478594B9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6BD-68AE-4650-ADD3-D56763DA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941-9BC0-4336-9421-9B15FBD9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0AE-632C-41D5-AE72-B91F571B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F83-7FFA-4C89-AD76-D9B70F2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91F-E4AD-4BE5-BFC0-5C3004A7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958EE-ABE5-47D9-9950-E0BED83D8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