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18977"/>
        <c:axId val="18869486"/>
      </c:barChart>
      <c:catAx>
        <c:axId val="41418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69486"/>
        <c:crosses val="autoZero"/>
        <c:auto val="1"/>
        <c:lblAlgn val="ctr"/>
        <c:lblOffset val="100"/>
        <c:noMultiLvlLbl val="0"/>
      </c:catAx>
      <c:valAx>
        <c:axId val="18869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18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18D-9DDF-48EE-AF48-E3C4489B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661-606A-43DF-B47F-EF13C26D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291-C781-427E-A901-107AEEDF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163-7521-44E5-8FC8-E2572C71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553-BAC2-4696-97A9-EAA5177B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37E-BAC5-44A1-BAC9-1CD454AA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6E0C-E78C-4A64-869D-B9DE1193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F85-9175-4E76-91DA-BA683310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59E-CC7D-4EBC-8FD0-5D0C2D42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377-B063-41C8-A77D-4A683CA1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041-505C-414A-AC87-3D60D875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EA8-3E44-453C-9AA1-3246D50A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6E604-F2FE-423F-ABFF-D6B7FCE5CA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