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538170"/>
        <c:axId val="11589639"/>
      </c:barChart>
      <c:catAx>
        <c:axId val="225381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89639"/>
        <c:crosses val="autoZero"/>
        <c:auto val="1"/>
        <c:lblAlgn val="ctr"/>
        <c:lblOffset val="100"/>
        <c:noMultiLvlLbl val="0"/>
      </c:catAx>
      <c:valAx>
        <c:axId val="115896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381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A8B0-FEFA-4D27-91C6-003E88B40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E583-69ED-4485-A87A-BAC8E174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66D6-4377-48F7-8797-95C45C04C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C0A3-E2F7-4620-B134-841721F41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1211-32B8-4000-BD04-11B08A1F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8905-FE9D-4FDF-8EF4-92DC3AF4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A40F-52A5-40A1-A186-AC8872CD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08B2-2ECB-4C0D-9A12-6F7AF875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CD70-E925-4C09-8BBD-16B27F49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6973-5C96-4A97-AF8A-B31A5031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BE8E-BDCA-41B0-9D91-30CD7120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D462-901D-4612-A522-9D640052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23072-4AB4-4A38-9EE3-F7A090D5FD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