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67642"/>
        <c:axId val="89944593"/>
      </c:barChart>
      <c:catAx>
        <c:axId val="57667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44593"/>
        <c:crosses val="autoZero"/>
        <c:auto val="1"/>
        <c:lblAlgn val="ctr"/>
        <c:lblOffset val="100"/>
        <c:noMultiLvlLbl val="0"/>
      </c:catAx>
      <c:valAx>
        <c:axId val="89944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67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7DD-0BFF-445C-ADBD-82F1EEE6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99C-02B1-4FA8-B69B-A003193E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8DF-4B4A-4D9F-AD09-F95C3347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374-B2B6-4503-9A41-981DE098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BE1-CBCE-4AA0-9448-20D24BCC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7A9-9BF1-466B-BC6C-F968F151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085-4634-4AC6-A23D-31301E31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7D1-2F39-469E-8893-DCA9BEA8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275-6B1D-4C8A-A7BE-C41CC7EA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63C-AAD2-47EE-9B16-F5FBA12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972-B595-4D5F-BA92-259E0DA0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E97-6051-443A-AA47-53518C2B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AE10A-F6E6-4FEC-A623-72F55E7A51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