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174964"/>
        <c:axId val="10043326"/>
      </c:barChart>
      <c:catAx>
        <c:axId val="661749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43326"/>
        <c:crosses val="autoZero"/>
        <c:auto val="1"/>
        <c:lblAlgn val="ctr"/>
        <c:lblOffset val="100"/>
        <c:noMultiLvlLbl val="0"/>
      </c:catAx>
      <c:valAx>
        <c:axId val="10043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749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6FE-B7D5-4B08-85AF-D4572D42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4C7-0F61-41DC-A4BE-16BD27F7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D07-B12F-4468-A735-A6600C42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A01-2052-478A-8D29-002255CF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5FE7-24F6-4B55-A57B-9AC04B11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CEE5-E735-443F-9D8B-99194469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684-C443-448C-ADAA-216872D0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8577-CD76-415A-A550-27F4087E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AEA-E85A-464C-9FB5-DADB14FE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56D-06C7-4CC8-8F50-DFCBFA38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DAA-0465-48B3-841E-449CD448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E71-D733-4A24-AE23-8B2557C5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58767-D931-46C4-B2A3-E28CDC07E8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