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52141"/>
        <c:axId val="46770929"/>
      </c:barChart>
      <c:catAx>
        <c:axId val="20952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70929"/>
        <c:crosses val="autoZero"/>
        <c:auto val="1"/>
        <c:lblAlgn val="ctr"/>
        <c:lblOffset val="100"/>
        <c:noMultiLvlLbl val="0"/>
      </c:catAx>
      <c:valAx>
        <c:axId val="46770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52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C64-16AA-49E2-986F-284805D1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D7C-A270-4275-AFCA-88102398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CF1-A9BC-4870-9B1F-C483F83A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54FE-1468-4FDA-8FE0-E14CB0FF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E66-8EC0-4E75-A223-66738A73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7EA-53EF-404D-A548-E9C1F44C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766-9356-44D8-9B35-E3C3AE29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CA9-1A46-49BC-89E7-9836C197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DF5-AAA7-4AE4-B104-C0FA93CA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C76-4CD8-4AB7-B7A5-E5E84902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684-AF37-43F2-83B0-8F435CC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D5C-CDD2-486E-A49F-EC5FCF55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A5753-FD20-4C71-A47D-FAD81A2CE0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