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2951"/>
        <c:axId val="95677201"/>
      </c:barChart>
      <c:catAx>
        <c:axId val="6032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77201"/>
        <c:crosses val="autoZero"/>
        <c:auto val="1"/>
        <c:lblAlgn val="ctr"/>
        <c:lblOffset val="100"/>
        <c:noMultiLvlLbl val="0"/>
      </c:catAx>
      <c:valAx>
        <c:axId val="95677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2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A24-5427-4FF9-8061-3B663A47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F74-AAF7-47A5-84D7-5A3BE47D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1E9-58FF-4107-B1B4-C254B6B3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EB9-5C0E-48EE-82FE-60358987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B19-54CF-49D5-AEA4-66766A78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657-EC8D-4600-BF81-0FA23726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0DD-D1B6-4945-9D83-455A73C4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DC7-9CAA-49F1-9ECD-B3E32DBE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758-6651-4325-9F53-AFCDEBDF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0C1-139D-4A39-A774-82865AA7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88F-11A8-4439-92D6-31CE7F52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A27-1209-4F6C-A4AD-A2691C32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3B08E-DAC9-4F1C-9EFD-72DB6A1311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