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6759"/>
        <c:axId val="84560122"/>
      </c:barChart>
      <c:catAx>
        <c:axId val="6176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60122"/>
        <c:crosses val="autoZero"/>
        <c:auto val="1"/>
        <c:lblAlgn val="ctr"/>
        <c:lblOffset val="100"/>
        <c:noMultiLvlLbl val="0"/>
      </c:catAx>
      <c:valAx>
        <c:axId val="84560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6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082-5482-49A8-A744-2F59234E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0CD-DF64-4179-A22B-0117253A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09B-717B-4CEA-B73C-FA5B7686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AA6-9588-4484-BDAA-5569040E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B32-EFB8-40FA-BD61-364C39A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588-F3C0-48B9-BABF-CB39D5BF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4BF-06ED-477D-9A06-C3D93A2B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009-BDF8-4525-9EB8-E5B35E46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771-CB70-4B50-AC60-DCCECE93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3C5-1845-4FBC-A71A-F660CF0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F5C-BEF9-4591-B6EB-0DF3E46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C50-B85A-4697-B83C-94660EA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A0F20-D966-49BA-9F44-02AEAE973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