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34065"/>
        <c:axId val="64513492"/>
      </c:barChart>
      <c:catAx>
        <c:axId val="518340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513492"/>
        <c:crosses val="autoZero"/>
        <c:auto val="1"/>
        <c:lblAlgn val="ctr"/>
        <c:lblOffset val="100"/>
        <c:noMultiLvlLbl val="0"/>
      </c:catAx>
      <c:valAx>
        <c:axId val="645134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340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0DC-11C9-4FAB-B6AB-EFB4EE08E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97CB-ACF9-4D3F-BC56-C9170839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4E86-3F05-4CD4-94E0-186D6F443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4D28-5BE3-48E8-9F0D-36E402EF4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7A7-D168-4E36-A717-70031B84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B530-1C6F-411C-BAC5-602F818F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FFA1-4A00-4D8A-84EE-0E59952B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8C80-C08E-427D-976A-36C7CC4ED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DFC1A-ECB7-408E-9F2C-AF2AE3BB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24D0-1032-4F00-AC45-62F4357DB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4C72-2D9D-4597-BC78-92B8F52D0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5BD-5939-422B-818E-CE76D4F8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930C3-40B9-4752-98B1-CC0831A6C7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