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24290"/>
        <c:axId val="57552897"/>
      </c:barChart>
      <c:catAx>
        <c:axId val="89024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52897"/>
        <c:crosses val="autoZero"/>
        <c:auto val="1"/>
        <c:lblAlgn val="ctr"/>
        <c:lblOffset val="100"/>
        <c:noMultiLvlLbl val="0"/>
      </c:catAx>
      <c:valAx>
        <c:axId val="57552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24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93B-29A8-4E7C-ADE2-00AB6BDE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BA5-504D-42B2-9EC6-8388863D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B62-954E-4FE1-9F36-6080358A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72E-8E68-4F25-B3AE-3706A37E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510-663B-4679-9288-5C82BE2E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59E-7FC7-4FE0-8C17-4DDA8A05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565-ABFC-4C94-B842-1EC9D2F2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CDE-E0B7-4BCF-8869-F18194B3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4DD-F2F1-41E9-9614-3B172D73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2FD-E971-4EF1-A910-4F9AD7CE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9A1-A36A-4523-83EB-8D0AC700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3A1-249F-419B-B06F-399D986E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D3FE8-B4CA-47CB-921D-14BD5C9B8F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