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995687"/>
        <c:axId val="11621046"/>
      </c:barChart>
      <c:catAx>
        <c:axId val="119956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621046"/>
        <c:crosses val="autoZero"/>
        <c:auto val="1"/>
        <c:lblAlgn val="ctr"/>
        <c:lblOffset val="100"/>
        <c:noMultiLvlLbl val="0"/>
      </c:catAx>
      <c:valAx>
        <c:axId val="116210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9956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42E8-23D3-48DC-8BFD-814B8948D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196E-5A03-4E1E-B1D1-4A84D356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4AD6-C55A-4298-BD94-735D110A8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9A17-A510-400F-BCD2-51365A45F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C32A-9517-4A0E-B5B2-8D18A31F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EA77-D76F-4501-AE5D-2AF9DC40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26D7-314E-4423-A20D-433CE788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F8A3-355C-414E-B6A3-35C4FA14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8824-FE59-41E9-8EE0-C71C1295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A7B0-ACFC-4F6C-A460-C72CDBAD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BF6F-9619-4E0A-BA96-244D9F83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18CC-91FF-433D-B059-2151DE46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7FBA7C-D773-4655-964E-90D0BA8B48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