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82538"/>
        <c:axId val="19236054"/>
      </c:barChart>
      <c:catAx>
        <c:axId val="84482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6054"/>
        <c:crosses val="autoZero"/>
        <c:auto val="1"/>
        <c:lblAlgn val="ctr"/>
        <c:lblOffset val="100"/>
        <c:noMultiLvlLbl val="0"/>
      </c:catAx>
      <c:valAx>
        <c:axId val="19236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82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3FF-F15A-426C-B3BA-82DA3476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6F6-5126-425D-98F7-3C03614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5B3-BB6D-4691-ADDB-0775B9DB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FD4-841F-44E0-B476-570EA514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862-18CC-498B-9854-91C4E0C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A21-AD55-4AD3-A723-68E7B58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F2C-573A-4817-B3A9-304F925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C18-BB05-42ED-A766-EB2276D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058-99F6-4E27-A796-CC3A7B14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2FB-3AC3-4DE3-B831-35B2EC50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E29-F238-4634-89AD-64B0D4A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0B6-8242-42B6-BB78-BF7D302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417B7-C8D1-4F35-9BED-07FEEC7C63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