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74715"/>
        <c:axId val="25229833"/>
      </c:barChart>
      <c:catAx>
        <c:axId val="74074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29833"/>
        <c:crosses val="autoZero"/>
        <c:auto val="1"/>
        <c:lblAlgn val="ctr"/>
        <c:lblOffset val="100"/>
        <c:noMultiLvlLbl val="0"/>
      </c:catAx>
      <c:valAx>
        <c:axId val="25229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74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64F-F406-4D28-960F-9A6B5453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631-1945-43C8-B632-36BA97E7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116-788A-4969-84FB-031CAF08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B13-011E-45E9-B139-198CA78A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06B-4810-4443-AD84-EEAD3234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94E-32D7-4E2B-9D0F-4D408B4C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BDF-3823-44B5-B514-A41DA125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D48-81CC-4F6A-9C42-26AA55B5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5E4-0D35-46C3-9C16-3197DD90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B67-6F6D-40F8-A8CB-E0569503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87F-48EF-4469-9B05-F947D8A7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936-2317-40F1-8775-E50DB65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78523-9CB4-45A1-8766-BC1F5AF46D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