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3749646"/>
        <c:axId val="31401904"/>
      </c:barChart>
      <c:catAx>
        <c:axId val="3374964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401904"/>
        <c:crosses val="autoZero"/>
        <c:auto val="1"/>
        <c:lblAlgn val="ctr"/>
        <c:lblOffset val="100"/>
        <c:noMultiLvlLbl val="0"/>
      </c:catAx>
      <c:valAx>
        <c:axId val="3140190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374964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878DA-FA26-47FE-A251-6A614F1D2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BDFBF-D7C2-435F-A879-3573985B0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B4620-7A20-4E45-883D-7677FB54E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5BFE6-2310-474F-87CD-E9D9AB99C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3B286-90A4-4E95-B34B-8DE4BA9DB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5F016-FB8B-4D69-9724-D1DD944C9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0AD9A-2C58-434B-9BFA-F3956D9EE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A8725-0913-4760-8915-BF9F1C908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1F700-ADD9-4D91-9CF0-8043DB17E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851B2-5F31-4C4C-81BF-A0271B23E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5C6B5-3647-4023-8559-887D10D17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74E40-EA15-4A61-AD9D-243FF6445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AD6D3C-0E6C-4B53-8CF2-750C771E9BC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