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52816"/>
        <c:axId val="77911682"/>
      </c:barChart>
      <c:catAx>
        <c:axId val="76552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11682"/>
        <c:crosses val="autoZero"/>
        <c:auto val="1"/>
        <c:lblAlgn val="ctr"/>
        <c:lblOffset val="100"/>
        <c:noMultiLvlLbl val="0"/>
      </c:catAx>
      <c:valAx>
        <c:axId val="77911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52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0331-60E1-493B-8BE7-AF48CD69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57C6-8E4B-45CA-B57E-3206E6DD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5EC-0C2F-4D4E-9DBB-4D1306EC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7D1-DC17-45BB-B14E-393208AB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02AD-86C0-4C3A-B0B7-9AA1EDB0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6D3-EE20-45B4-ADC8-01E84C3B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0BCA-E0B4-4FFA-AE5D-4EA8FA93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879-8EF3-4078-903D-0B5B065B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F073-7FED-4F3E-831D-E576DE4C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193-57A3-4CA6-B7E3-D335EEAF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DA3B-B2E5-4696-B1E8-6C0DF781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270-20C0-431F-8D08-385CDFA8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32BA6-B32A-4320-B73C-16A124186C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