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A84892-FD08-4299-A951-E1ED3B4EA6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FE0701-96C8-4C89-B607-9FAFB35463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A775B4-E2C0-497B-93E4-32B581F98E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787C89-B3BD-47EA-BA76-E12ACA96C8B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26288E-06F1-4DDA-8759-00832B356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8BEF78-E869-446A-8D06-858DC5574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4066C6-0CAB-4CB4-A813-39344611E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4C4CB0-65DE-435C-9E59-82E0803A0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ACDFBA-31EF-4F8C-97C6-E7B9211CD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D31481-EBD4-4D5E-9FB0-6E9ED7BA4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46843B-073D-414F-AC28-CC3965594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165283-30FB-4810-B004-12959073BC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3D57E4-16E8-4152-AB81-B33CD0FAB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BB7013-3707-4680-BF4A-10A1F7DD6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DECB28-42BB-46C6-A924-70D555B4A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63DA8B-AC6F-47AA-B501-482C71200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CAE037-E6BD-4228-AF22-FEAB748B2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6C68BB-E6D9-4557-9207-DA8F61A285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D05003-A1DC-4918-9B14-6F9DA653E3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6DC76D-98D7-470C-81EE-8C5BC5DFAA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5C1A33-2FDC-4D10-9484-E75EFBE3D2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17EC00-8802-4773-A346-171FB76B83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4C57FA-20FF-4030-B729-747A4BF0AA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40DD4D-2B12-4E27-8781-742266B1D2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5EB5D-9231-4E55-B0B6-0FA53644D030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8077C-ECC1-4F3B-B4F8-F9EF8E609C0A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27780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emo(DierckxSplin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ludes examples with data discus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0"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ignette(DierckxSplin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e"/>
              </a:rPr>
              <a:t>Provides more details on the spline fitting and algorith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e"/>
              </a:rPr>
              <a:t>Includes relevant sections from DierckxSpline (199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8B7DA6-3CC6-448F-A404-FF461F620B2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AFBA9B-5A34-476D-A98F-BF48D94F76B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2CBEFB-70AB-4A8F-B3C1-EAED42BC876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knots(f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knots(f3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85013A-30FB-4AD2-8DE8-17FEA6C9942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CD19C5-6C90-4DF3-A319-F9B35B38D16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35D0AC-D144-41DB-A976-CEE90C29B04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1D2464-0B9D-4471-A5B5-A7F20EA8C9D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for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C61D00-4713-4B2D-8E55-F9468CE9835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1A3743-07BA-46D1-A1EE-4D1C5433EE8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0EF36F-F9D1-4E89-BAB7-EAC7C5AFF71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7F5CF2-2973-41D1-B204-4A8301A3CC1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65BAC7-2FD4-42D8-BBB7-32A85CA7B7A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FCDC6C-DF6F-44EE-B5DA-5024F453CFA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863E35-1E57-4E31-9F88-E10EF004BCE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7-08-18T20:30:08Z</dcterms:modified>
  <cp:revision>162</cp:revision>
  <dc:subject/>
  <dc:title>minSpline: An R Package For Minimal Knot Splines</dc:title>
</cp:coreProperties>
</file>